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A77-36B4-4CB5-A4CD-FEC4B623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4BB-680A-4857-88D3-18D06577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A37-9BB6-499B-96B9-E18B2491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631-D293-406C-8B98-1EF35FF3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A4D-1925-4381-8AF4-2B5D2009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9C2-CC68-469D-BCEE-8D1CD30F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2F3-97BD-4506-AED9-DCEF57B1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CF9-8FDC-4C47-AC6C-40AD638C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F3A-D30F-417D-958B-50D4D52D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BB7-7777-41CD-A65F-669C7940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73C-6489-4858-910D-ACB3695B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140-32FC-4F3A-99F9-569AD10E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61D265-4593-40E1-BF33-506C160C8777}" type="slidenum"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6963480" y="60195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www.gratisfree.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10680" cy="686448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-304920"/>
            <a:ext cx="5016600" cy="762012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7952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06520" y="0"/>
            <a:ext cx="45309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192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227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37000" y="0"/>
            <a:ext cx="3870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5:20:46Z</dcterms:created>
  <dc:creator>Pinheiro Neto - Advogados</dc:creator>
  <dc:description/>
  <dc:language>en-US</dc:language>
  <cp:lastModifiedBy>pizza party</cp:lastModifiedBy>
  <dcterms:modified xsi:type="dcterms:W3CDTF">2007-05-16T10:57:18Z</dcterms:modified>
  <cp:revision>9</cp:revision>
  <dc:subject/>
  <dc:title>Slide sem título </dc:title>
</cp:coreProperties>
</file>